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B24-6249-4910-8B48-52BCC9B4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F22-0982-4D33-AFCA-90969BE9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A47-EBD5-4D66-A3FA-54B3C905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5AF-46F0-40FA-BAB6-274FD109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D6D3-C137-4D15-B055-89D65CFD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FF5E-CEB4-416F-A441-DDC3F33A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2A48-615C-4743-87D8-438424D4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19ED-69B4-4235-8F9C-1BDAB9FF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4B0F-19A8-4C35-A226-4CED1EDE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C038-CCFB-4E1C-9DE0-7B823CAD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BB77-D718-47FB-8AEE-01314BF8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54C-7A3C-4FC5-BE26-1A3050D2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019C-3B93-44D9-8A44-53C169B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75AA-66A0-4E06-A973-0BFF3F6F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2706-8663-4D1D-B69E-7BD5528E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0C33-B2CD-469A-8162-A8DF73DD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F6F0-A59B-443D-88E3-B5060216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64B-35A5-4F33-9EE8-B56030C5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EBD-E68E-4DFF-8B9D-7BE18B31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6E9-44DF-4230-9F27-B605EE10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BFB-228F-432C-B5D1-4E858C8C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052-E09F-4A8D-B5FB-DFB9D799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D05-8466-4628-A4C9-E53366AD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FC8-4F7E-43B7-A4D8-48DB32EB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A884-EBD7-4D97-B433-5AB03462DE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452B-4CF8-47B1-89AF-25CBDE89FA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rding to a USA Today report, overweight men make about $4,000 fewer per year then those whom are average we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k band roadies put in 17 hour days transporting, and handling musical equipment, and they earn among $500 and $1,500 a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ournal #71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television, music, books, video games, etc…be censored?  Why or why no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nited States dept. of labor projects that in the next 10 years only 31% of those entering the workforce will be non hispanic white men, women will comprise 52% of the new work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le insomniacs may change body position more than one hundred times a night normal sleepers changes positions only 30 ti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ournal #72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 looking forward to during the next stages of your lif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-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riday Warm-up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380520" y="17524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the following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ag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incomplete sentences) into grammatically correct sente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3429000"/>
            <a:ext cx="8610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oud stereo that kept me up all 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gorgeous sunrise breaking on the horiz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obnoxious child only a mother could lo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ding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he Great Gatsb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until da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the mother stood outside wai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8:26:28Z</dcterms:created>
  <dc:creator>tpagel</dc:creator>
  <dc:description/>
  <dc:language>en-US</dc:language>
  <cp:lastModifiedBy>tpagel</cp:lastModifiedBy>
  <dcterms:modified xsi:type="dcterms:W3CDTF">2010-06-03T18:27:00Z</dcterms:modified>
  <cp:revision>1</cp:revision>
  <dc:subject/>
  <dc:title>Warm-Up Sentences</dc:title>
</cp:coreProperties>
</file>